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52A7-F77C-4675-A367-B39EBBC4EA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D031-7866-4391-997B-90ABF9D1AF7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EA47-C12F-4D1C-AC58-C395D92D0A0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0B1-A486-4E2E-A3AB-382D06BF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9A1-8D99-4E0C-8B19-2C4C2BB2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F95-F589-436B-84D6-7460B4F9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C85-D689-473C-BA0A-6BCECE05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E0A-0FFF-42A9-A179-1C4F76B7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D72-D869-44E5-8952-4B271BE0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403-431C-42D5-AD2C-27AE8CE6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B8CD-D056-4322-8476-4A9B1372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594-D17B-4D08-AF4B-AC72C5CA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8D0-92E0-4E85-A900-B7DE7C39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BA1-B0C2-4E86-A435-2022BF58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56E-36E4-411D-B59D-8D68C896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0F76-E494-48E3-999E-B81C3E7900C6}" type="slidenum">
              <a:rPr b="0" lang="uk-U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705960"/>
            <a:ext cx="8291520" cy="538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0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ISA </a:t>
            </a: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2018</a:t>
            </a: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: </a:t>
            </a:r>
            <a:br>
              <a:rPr sz="4000"/>
            </a:br>
            <a:r>
              <a:rPr b="1" lang="uk-UA" sz="4300" spc="-1" strike="noStrike">
                <a:solidFill>
                  <a:srgbClr val="c00000"/>
                </a:solidFill>
                <a:latin typeface="Calibri"/>
              </a:rPr>
              <a:t>ЧИТАННЯ </a:t>
            </a:r>
            <a:br>
              <a:rPr sz="4300"/>
            </a:b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(провідна галузь дослідження)</a:t>
            </a:r>
            <a:br>
              <a:rPr sz="4000"/>
            </a:br>
            <a:r>
              <a:rPr b="1" i="1" lang="uk-UA" sz="4300" spc="-1" strike="noStrike">
                <a:solidFill>
                  <a:srgbClr val="c00000"/>
                </a:solidFill>
                <a:latin typeface="Calibri"/>
              </a:rPr>
              <a:t>ПРИКЛАДИ ЗАВДАНЬ</a:t>
            </a: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Завдання</a:t>
            </a: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: Яка мета танцю бджіл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A</a:t>
            </a:r>
            <a:r>
              <a:rPr b="0" lang="uk-UA" sz="4400" spc="-1" strike="noStrike">
                <a:solidFill>
                  <a:srgbClr val="546422"/>
                </a:solidFill>
                <a:latin typeface="Calibri"/>
              </a:rPr>
              <a:t>   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ідсвяткувати успішне виробництво меду.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B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 Вказати тип рослини, яку знайшли фуражери.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C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 Відсвяткувати народження нової бджолиної матки. 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D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  Вказати, де фуражери знайшли їжу.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Цілісні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тексти</a:t>
            </a: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8920" y="907920"/>
            <a:ext cx="8713800" cy="5834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Цілісні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кладаються з речень, які організовані в абзац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газетні повідомленн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нарис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омани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оповіданн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відгуки і листи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00000"/>
                </a:solidFill>
                <a:latin typeface="Calibri"/>
              </a:rPr>
              <a:t>Перервані тексти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764640"/>
            <a:ext cx="8229600" cy="597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це тексти у форматі матриці: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списки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таблиці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графіки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діаграми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рекламні оголошення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розклади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каталоги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покажчики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бланки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Заголовок 1"/>
          <p:cNvGrpSpPr/>
          <p:nvPr/>
        </p:nvGrpSpPr>
        <p:grpSpPr>
          <a:xfrm>
            <a:off x="-42840" y="-30240"/>
            <a:ext cx="9156600" cy="2962440"/>
            <a:chOff x="-42840" y="-30240"/>
            <a:chExt cx="9156600" cy="2962440"/>
          </a:xfrm>
        </p:grpSpPr>
        <p:pic>
          <p:nvPicPr>
            <p:cNvPr id="7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42840" y="-30240"/>
              <a:ext cx="9156600" cy="29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-36360" y="-27000"/>
              <a:ext cx="914400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200"/>
              </a:br>
              <a:br>
                <a:rPr sz="3200"/>
              </a:br>
              <a:br>
                <a:rPr sz="3200"/>
              </a:br>
              <a:br>
                <a:rPr sz="3200"/>
              </a:br>
              <a:r>
                <a:rPr b="0" lang="uk-UA" sz="3200" spc="-1" strike="noStrike">
                  <a:solidFill>
                    <a:srgbClr val="c00000"/>
                  </a:solidFill>
                  <a:latin typeface="Calibri"/>
                </a:rPr>
                <a:t>Перерваний текст: Бібліотечна система Морленда</a:t>
              </a:r>
              <a:br>
                <a:rPr sz="3200"/>
              </a:br>
              <a:r>
                <a:rPr b="1" lang="uk-UA" sz="32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uk-UA" sz="3200" spc="-1" strike="noStrike">
                  <a:solidFill>
                    <a:srgbClr val="000000"/>
                  </a:solidFill>
                  <a:latin typeface="Calibri"/>
                </a:rPr>
                <a:t>За бібліотечною системою Морленда нові члени бібліотеки отримують закладку з розкладом її роботи. </a:t>
              </a:r>
              <a:br>
                <a:rPr sz="3200"/>
              </a:br>
              <a:r>
                <a:rPr b="0" lang="uk-UA" sz="3200" spc="-1" strike="noStrike">
                  <a:solidFill>
                    <a:srgbClr val="000000"/>
                  </a:solidFill>
                  <a:latin typeface="Calibri"/>
                </a:rPr>
                <a:t>     Завдання 1:  Яка з бібліотек ще відкрита о 6-ій годині вечора по п’ятницях?</a:t>
              </a:r>
              <a:br>
                <a:rPr sz="2900"/>
              </a:br>
              <a:br>
                <a:rPr sz="2900"/>
              </a:br>
              <a:br>
                <a:rPr sz="3200"/>
              </a:br>
              <a:br>
                <a:rPr sz="3200"/>
              </a:b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" name="Объект 8" descr=""/>
          <p:cNvPicPr/>
          <p:nvPr/>
        </p:nvPicPr>
        <p:blipFill>
          <a:blip r:embed="rId2"/>
          <a:stretch/>
        </p:blipFill>
        <p:spPr>
          <a:xfrm>
            <a:off x="34920" y="3068640"/>
            <a:ext cx="9037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Змішані текс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1280" y="836280"/>
            <a:ext cx="8964720" cy="5761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тановлять </a:t>
            </a: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сукупність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елементів </a:t>
            </a:r>
            <a:r>
              <a:rPr b="0" i="1" lang="uk-UA" sz="4400" spc="-1" strike="noStrike">
                <a:solidFill>
                  <a:srgbClr val="c00000"/>
                </a:solidFill>
                <a:latin typeface="Calibri"/>
              </a:rPr>
              <a:t>цілісного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0" i="1" lang="uk-UA" sz="4400" spc="-1" strike="noStrike">
                <a:solidFill>
                  <a:srgbClr val="c00000"/>
                </a:solidFill>
                <a:latin typeface="Calibri"/>
              </a:rPr>
              <a:t>перерваного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формату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Приклади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358920" algn="just">
              <a:spcBef>
                <a:spcPts val="11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яснення в підручнику, яке   містить графік або таблицю;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Завдання: тип тексту – читацькі процес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280" y="907920"/>
          <a:ext cx="8856720" cy="5913720"/>
        </p:xfrm>
        <a:graphic>
          <a:graphicData uri="http://schemas.openxmlformats.org/drawingml/2006/table">
            <a:tbl>
              <a:tblPr/>
              <a:tblGrid>
                <a:gridCol w="4429080"/>
                <a:gridCol w="442764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ИНИЧНИЙ тек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НОЖИННИЙ тек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лянути текст і знайти інформацію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ійснити пошук та відібрати актуальний текс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8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квальне розуміння написаног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уміння на основі умовиводу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уміння на основі умовиводу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8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інити якість викладу і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овірність інформації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мислити зміст і форму тексту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явити і подолати суперечні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Завданн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79280" y="836640"/>
            <a:ext cx="8785440" cy="5905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Традиційні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завдання на перевірку 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розуміння прочитаного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(знайти інформацію, зробити висновок тощо)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Комплексні</a:t>
            </a:r>
            <a:r>
              <a:rPr b="0" i="1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завдання, наприклад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61416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знайти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 спільне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 відмінне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між 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декількома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текстами, у тому числі </a:t>
            </a:r>
            <a:r>
              <a:rPr b="0" i="1" lang="uk-UA" sz="3600" spc="-1" strike="noStrike">
                <a:solidFill>
                  <a:srgbClr val="000000"/>
                </a:solidFill>
                <a:latin typeface="Calibri"/>
              </a:rPr>
              <a:t>різних форматів і т. ін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614160" algn="just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підкріпити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певну інформацію 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фактами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з 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кількох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текстів у тому числі </a:t>
            </a:r>
            <a:r>
              <a:rPr b="0" i="1" lang="uk-UA" sz="3600" spc="-1" strike="noStrike">
                <a:solidFill>
                  <a:srgbClr val="000000"/>
                </a:solidFill>
                <a:latin typeface="Calibri"/>
              </a:rPr>
              <a:t>різних форматів і т. ін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560" y="-171720"/>
            <a:ext cx="9217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Приклад комплексного завдання:</a:t>
            </a:r>
            <a:br>
              <a:rPr sz="3200"/>
            </a:b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Зразок </a:t>
            </a: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сценарію</a:t>
            </a: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 з трьома включеними </a:t>
            </a: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завданнями</a:t>
            </a: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.</a:t>
            </a:r>
            <a:br>
              <a:rPr sz="3200"/>
            </a:b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34920" y="1506600"/>
            <a:ext cx="9037800" cy="696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опонується прочитати три джерела: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90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пост з блог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90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оментарі після ньо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90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статтю, на яку вказує один з коментаторів (Скотт Гаффінгтон «Чи закінчився золотий вік дослідження космосу?»)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ценарій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: Обговорюється дослідження космосу сьогодні та в майбутньом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чні мають виконати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3 завдання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які оцінюють різні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читацькі процес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Завдання: Проглянь і знайди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(</a:t>
            </a: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одиничний текст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620280"/>
            <a:ext cx="9144000" cy="6264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Згідно зі статтею Скотта Гаффінгтона «Чи закінчився золотий вік дослідження космосу?»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як вплинули приватні компанії на освоєння космосу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00000"/>
                </a:solidFill>
                <a:latin typeface="Calibri"/>
              </a:rPr>
              <a:t>А</a:t>
            </a:r>
            <a:r>
              <a:rPr b="0" lang="uk-UA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риватні компанії показали, що вони можуть краще вести проекти дослідження космосу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00000"/>
                </a:solidFill>
                <a:latin typeface="Calibri"/>
              </a:rPr>
              <a:t>Б</a:t>
            </a:r>
            <a:r>
              <a:rPr b="0" lang="uk-UA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Люди ставлять під сумнів необхідність існування державних космічних програм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00000"/>
                </a:solidFill>
                <a:latin typeface="Calibri"/>
              </a:rPr>
              <a:t>В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ержавні установи втрачають фінансування у конкуренції з приватними компаніями, які надають ті ж послуги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00000"/>
                </a:solidFill>
                <a:latin typeface="Calibri"/>
              </a:rPr>
              <a:t>Г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ержавні установи та приватні компанії ефективно співпрацюють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7920" y="140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Завдання: Умовиводи на основі множинних текстів</a:t>
            </a:r>
            <a:br>
              <a:rPr sz="36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017960" y="2898720"/>
          <a:ext cx="1539720" cy="2544840"/>
        </p:xfrm>
        <a:graphic>
          <a:graphicData uri="http://schemas.openxmlformats.org/drawingml/2006/table">
            <a:tbl>
              <a:tblPr/>
              <a:tblGrid>
                <a:gridCol w="1539720"/>
              </a:tblGrid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ердженн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ал до досліджень космосу зменшивс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уп у дослідженні космосу протягом останніх років сповільнивс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к людські, так і машинні польоти мають величезне значення для програм дослідження космос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Прямоугольник 1"/>
          <p:cNvSpPr/>
          <p:nvPr/>
        </p:nvSpPr>
        <p:spPr>
          <a:xfrm>
            <a:off x="71280" y="765000"/>
            <a:ext cx="9037800" cy="5821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. На основі того, що ви дізналися, позначте в таблиці всіх осіб, які б погодилися із наведеними твердженн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1280" y="2060640"/>
          <a:ext cx="3780000" cy="537984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marL="17460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ерджен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68760" rIns="68760" tIns="0" bIns="0" anchor="t">
                      <a:noAutofit/>
                    </a:bodyPr>
                    <a:p>
                      <a:pPr marL="17460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л до досліджень космосу зменшивс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68760" rIns="68760" tIns="0" bIns="0" anchor="t">
                      <a:noAutofit/>
                    </a:bodyPr>
                    <a:p>
                      <a:pPr marL="17460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 у дослідженні космосу протягом останніх років сповільнився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3880">
                <a:tc>
                  <a:txBody>
                    <a:bodyPr lIns="68760" rIns="68760" tIns="0" bIns="0" anchor="t">
                      <a:noAutofit/>
                    </a:bodyPr>
                    <a:p>
                      <a:pPr marL="17460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людські, так і машинні польоти мають величезне значення для програм дослідження космос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780000" y="1989000"/>
          <a:ext cx="5117760" cy="4651560"/>
        </p:xfrm>
        <a:graphic>
          <a:graphicData uri="http://schemas.openxmlformats.org/drawingml/2006/table">
            <a:tbl>
              <a:tblPr/>
              <a:tblGrid>
                <a:gridCol w="1728720"/>
                <a:gridCol w="1689120"/>
                <a:gridCol w="1699920"/>
              </a:tblGrid>
              <a:tr h="64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ффінгт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Йоші К</a:t>
                      </a: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б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сьє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9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501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4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Мет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1599840"/>
            <a:ext cx="8424720" cy="4708440"/>
          </a:xfrm>
          <a:prstGeom prst="rect">
            <a:avLst/>
          </a:prstGeom>
          <a:solidFill>
            <a:srgbClr val="d9d9d9"/>
          </a:solidFill>
          <a:ln w="9360">
            <a:solidFill>
              <a:srgbClr val="f2f2f2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«зібрати реальні підтвердження рівня майстерності учнів з читання, </a:t>
            </a:r>
            <a:r>
              <a:rPr b="0" i="1" lang="uk-UA" sz="4000" spc="-1" strike="noStrike">
                <a:solidFill>
                  <a:srgbClr val="c00000"/>
                </a:solidFill>
                <a:latin typeface="Calibri"/>
              </a:rPr>
              <a:t>організувавши читацьку діяльність</a:t>
            </a: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, яку вони могли би здійснювати в школі або за її межами в підлітковому або в дорослому віці»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Завдання:  Оціни і осмисли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920" y="980640"/>
            <a:ext cx="8686800" cy="5761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6686d"/>
                </a:solidFill>
                <a:latin typeface="Calibri"/>
              </a:rPr>
              <a:t>Подумай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, як Скотт Гаффінгтон писав свою статтю, і як люди писали коментарі у відповідь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На основі цієї інформації </a:t>
            </a:r>
            <a:r>
              <a:rPr b="1" lang="uk-UA" sz="4000" spc="-1" strike="noStrike">
                <a:solidFill>
                  <a:srgbClr val="08684e"/>
                </a:solidFill>
                <a:latin typeface="Calibri"/>
              </a:rPr>
              <a:t>напиши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коментар, який пояснює </a:t>
            </a: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дві першочергові переваги дослідження космосу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8684e"/>
                </a:solidFill>
                <a:latin typeface="Calibri"/>
              </a:rPr>
              <a:t>Підкріпи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свою відповідь інформацією із цих статей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c00000"/>
                </a:solidFill>
                <a:latin typeface="Calibri"/>
              </a:rPr>
              <a:t>Дякую за увагу!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ISA </a:t>
            </a: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2018: читацька грамотніст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Объект 8" descr=""/>
          <p:cNvPicPr/>
          <p:nvPr/>
        </p:nvPicPr>
        <p:blipFill>
          <a:blip r:embed="rId1"/>
          <a:stretch/>
        </p:blipFill>
        <p:spPr>
          <a:xfrm>
            <a:off x="-6480" y="944640"/>
            <a:ext cx="894888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0"/>
          <p:cNvSpPr/>
          <p:nvPr/>
        </p:nvSpPr>
        <p:spPr>
          <a:xfrm>
            <a:off x="5292720" y="4941720"/>
            <a:ext cx="2879640" cy="432000"/>
          </a:xfrm>
          <a:prstGeom prst="rect">
            <a:avLst/>
          </a:prstGeom>
          <a:solidFill>
            <a:srgbClr val="0f6fc6"/>
          </a:solidFill>
          <a:ln w="15840">
            <a:solidFill>
              <a:srgbClr val="053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4520" y="-59040"/>
            <a:ext cx="83628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Вимірювання читацької грамотності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980640"/>
            <a:ext cx="8785080" cy="5805720"/>
          </a:xfrm>
          <a:prstGeom prst="rect">
            <a:avLst/>
          </a:prstGeom>
          <a:solidFill>
            <a:srgbClr val="d9d9d9"/>
          </a:solidFill>
          <a:ln w="9360">
            <a:solidFill>
              <a:srgbClr val="0f6fc6"/>
            </a:solidFill>
            <a:miter/>
          </a:ln>
        </p:spPr>
        <p:txBody>
          <a:bodyPr anchor="t">
            <a:normAutofit fontScale="77000"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Вимірюється в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PISA</a:t>
            </a: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 за трьома джерелами впливу</a:t>
            </a:r>
            <a:r>
              <a:rPr b="0" lang="uk-UA" sz="35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uk-UA" sz="3400" spc="-1" strike="noStrike">
                <a:solidFill>
                  <a:srgbClr val="000000"/>
                </a:solidFill>
                <a:latin typeface="Calibri"/>
              </a:rPr>
              <a:t>читач</a:t>
            </a: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uk-UA" sz="3400" spc="-1" strike="noStrike">
                <a:solidFill>
                  <a:srgbClr val="000000"/>
                </a:solidFill>
                <a:latin typeface="Calibri"/>
              </a:rPr>
              <a:t>текст, завдання</a:t>
            </a: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b5395"/>
                </a:solidFill>
                <a:latin typeface="Calibri"/>
              </a:rPr>
              <a:t>читач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c00000"/>
                </a:solidFill>
                <a:latin typeface="Calibri"/>
              </a:rPr>
              <a:t>читацька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c00000"/>
                </a:solidFill>
                <a:latin typeface="Calibri"/>
              </a:rPr>
              <a:t> </a:t>
            </a:r>
            <a:r>
              <a:rPr b="1" lang="uk-UA" sz="3700" spc="-1" strike="noStrike">
                <a:solidFill>
                  <a:srgbClr val="c00000"/>
                </a:solidFill>
                <a:latin typeface="Calibri"/>
              </a:rPr>
              <a:t>грамотність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c00000"/>
                </a:solidFill>
                <a:latin typeface="Calibri"/>
              </a:rPr>
              <a:t> </a:t>
            </a:r>
            <a:r>
              <a:rPr b="1" lang="uk-UA" sz="3700" spc="-1" strike="noStrike">
                <a:solidFill>
                  <a:srgbClr val="0b5395"/>
                </a:solidFill>
                <a:latin typeface="Calibri"/>
              </a:rPr>
              <a:t>                    </a:t>
            </a:r>
            <a:r>
              <a:rPr b="0" lang="uk-UA" sz="3700" spc="-1" strike="noStrike">
                <a:solidFill>
                  <a:srgbClr val="0b5395"/>
                </a:solidFill>
                <a:latin typeface="Calibri"/>
              </a:rPr>
              <a:t>текст             завдання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Це визначає </a:t>
            </a:r>
            <a:r>
              <a:rPr b="1" lang="uk-UA" sz="3300" spc="-1" strike="noStrike">
                <a:solidFill>
                  <a:srgbClr val="000000"/>
                </a:solidFill>
                <a:latin typeface="Calibri"/>
              </a:rPr>
              <a:t>важливість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uk-UA" sz="3600" spc="-1" strike="noStrike">
                <a:solidFill>
                  <a:srgbClr val="0f6fc6"/>
                </a:solidFill>
                <a:latin typeface="Calibri"/>
              </a:rPr>
              <a:t>д</a:t>
            </a:r>
            <a:r>
              <a:rPr b="1" lang="uk-UA" sz="3600" spc="-1" strike="noStrike">
                <a:solidFill>
                  <a:srgbClr val="0b5395"/>
                </a:solidFill>
                <a:latin typeface="Calibri"/>
              </a:rPr>
              <a:t>обору</a:t>
            </a:r>
            <a:r>
              <a:rPr b="0" lang="uk-UA" sz="3600" spc="-1" strike="noStrike">
                <a:solidFill>
                  <a:srgbClr val="0b5395"/>
                </a:solidFill>
                <a:latin typeface="Calibri"/>
              </a:rPr>
              <a:t> </a:t>
            </a:r>
            <a:r>
              <a:rPr b="1" lang="uk-UA" sz="3600" spc="-1" strike="noStrike">
                <a:solidFill>
                  <a:srgbClr val="0b5395"/>
                </a:solidFill>
                <a:latin typeface="Calibri"/>
              </a:rPr>
              <a:t>текстів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uk-UA" sz="3600" spc="-1" strike="noStrike">
                <a:solidFill>
                  <a:srgbClr val="0b5395"/>
                </a:solidFill>
                <a:latin typeface="Calibri"/>
              </a:rPr>
              <a:t>розробки</a:t>
            </a:r>
            <a:r>
              <a:rPr b="0" lang="uk-UA" sz="3600" spc="-1" strike="noStrike">
                <a:solidFill>
                  <a:srgbClr val="0b5395"/>
                </a:solidFill>
                <a:latin typeface="Calibri"/>
              </a:rPr>
              <a:t> </a:t>
            </a:r>
            <a:r>
              <a:rPr b="1" lang="uk-UA" sz="3600" spc="-1" strike="noStrike">
                <a:solidFill>
                  <a:srgbClr val="0b5395"/>
                </a:solidFill>
                <a:latin typeface="Calibri"/>
              </a:rPr>
              <a:t>завдань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6" name="Прямая со стрелкой 36"/>
          <p:cNvCxnSpPr/>
          <p:nvPr/>
        </p:nvCxnSpPr>
        <p:spPr>
          <a:xfrm>
            <a:off x="4642920" y="2924280"/>
            <a:ext cx="1080" cy="28944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57" name="Прямая со стрелкой 38"/>
          <p:cNvCxnSpPr/>
          <p:nvPr/>
        </p:nvCxnSpPr>
        <p:spPr>
          <a:xfrm flipH="1" flipV="1">
            <a:off x="5003280" y="3989160"/>
            <a:ext cx="937440" cy="2880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58" name="Прямая со стрелкой 40"/>
          <p:cNvCxnSpPr/>
          <p:nvPr/>
        </p:nvCxnSpPr>
        <p:spPr>
          <a:xfrm flipV="1">
            <a:off x="3131640" y="4005000"/>
            <a:ext cx="1296360" cy="2880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720" y="-360"/>
            <a:ext cx="9288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Тексти:  одиничні й множинні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936720"/>
            <a:ext cx="8785440" cy="5805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00000"/>
                </a:solidFill>
                <a:latin typeface="Calibri"/>
              </a:rPr>
              <a:t>Одиничні тексти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мають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автора,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назву і час написання або дату публікації і номер видання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00000"/>
                </a:solidFill>
                <a:latin typeface="Calibri"/>
              </a:rPr>
              <a:t>Множинні тексти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– мають кількох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різних авторів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, були опубліковані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в різний час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, були подані під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різними заголовками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чи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номерами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6407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0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Множинний текст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1" i="1" lang="uk-UA" sz="3600" spc="-1" strike="noStrike">
                <a:solidFill>
                  <a:srgbClr val="c00000"/>
                </a:solidFill>
                <a:latin typeface="Calibri"/>
              </a:rPr>
              <a:t> ГРАФІТІ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484280"/>
            <a:ext cx="9144000" cy="5113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дані нижче листи надійшли з Інтернету, й обидва вони про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графіті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Завдання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Використайте ці листи для відповідей на запитання, запропонованих нижче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-27000"/>
            <a:ext cx="8640720" cy="691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Я киплю від злості, оскільки в четвертий раз стіну школи очищають і перефарбовують, щоб покінчити з графіті. Творчість – це прекрасно, але чому ж не знайти такі способи самовиразу, які не завдавали б зайвих збитків суспільству? .…………</a:t>
            </a:r>
            <a:r>
              <a:rPr b="0" i="1" lang="uk-UA" sz="2400" spc="-1" strike="noStrike">
                <a:solidFill>
                  <a:srgbClr val="546422"/>
                </a:solidFill>
                <a:latin typeface="Calibri"/>
              </a:rPr>
              <a:t>...............…………………………………………………….…….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Хельг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i="1" lang="uk-UA" sz="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uk-UA" sz="6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uk-UA" sz="3200" spc="-1" strike="noStrike">
                <a:solidFill>
                  <a:srgbClr val="083763"/>
                </a:solidFill>
                <a:latin typeface="Calibri"/>
              </a:rPr>
              <a:t>У </a:t>
            </a:r>
            <a:r>
              <a:rPr b="0" i="1" lang="uk-UA" sz="3200" spc="-1" strike="noStrike">
                <a:solidFill>
                  <a:srgbClr val="083763"/>
                </a:solidFill>
                <a:latin typeface="Calibri"/>
              </a:rPr>
              <a:t>людей різні смаки. Суспільство перенасичене інформацією  та рекламою. А чи запитали ті, хто ставить рекламні щити, вашого дозволу? Ні. Тоді чи повинні це робити люди, які малюють на стінах? Так, скрутні часи настали для мистецтв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………….......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Софі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f6fc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f6fc6"/>
                </a:solidFill>
                <a:latin typeface="Calibri"/>
              </a:rPr>
              <a:t> </a:t>
            </a:r>
            <a:r>
              <a:rPr b="1" lang="uk-UA" sz="3600" spc="-1" strike="noStrike">
                <a:solidFill>
                  <a:srgbClr val="0f6fc6"/>
                </a:solidFill>
                <a:latin typeface="Calibri"/>
              </a:rPr>
              <a:t>Чому Софія посилається на рекламу</a:t>
            </a:r>
            <a:r>
              <a:rPr b="0" lang="uk-UA" sz="3600" spc="-1" strike="noStrike">
                <a:solidFill>
                  <a:srgbClr val="0f6fc6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f6fc6"/>
                </a:solidFill>
                <a:latin typeface="Calibri"/>
              </a:rPr>
              <a:t> </a:t>
            </a:r>
            <a:r>
              <a:rPr b="0" lang="uk-UA" sz="3600" spc="-1" strike="noStrike">
                <a:solidFill>
                  <a:srgbClr val="0f6fc6"/>
                </a:solidFill>
                <a:latin typeface="Calibri"/>
              </a:rPr>
              <a:t>Завдання: Викладіть свою думку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53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424720" cy="129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0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c00000"/>
                </a:solidFill>
                <a:latin typeface="Calibri"/>
              </a:rPr>
              <a:t>Нетекстові формат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12640"/>
            <a:ext cx="8362800" cy="504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600" spc="-1" strike="noStrike">
                <a:solidFill>
                  <a:srgbClr val="c00000"/>
                </a:solidFill>
                <a:latin typeface="Calibri"/>
              </a:rPr>
              <a:t>Малюнки </a:t>
            </a:r>
            <a:r>
              <a:rPr b="0" lang="uk-UA" sz="5600" spc="-1" strike="noStrike">
                <a:solidFill>
                  <a:srgbClr val="000000"/>
                </a:solidFill>
                <a:latin typeface="Calibri"/>
              </a:rPr>
              <a:t>і </a:t>
            </a:r>
            <a:r>
              <a:rPr b="0" i="1" lang="uk-UA" sz="5600" spc="-1" strike="noStrike">
                <a:solidFill>
                  <a:srgbClr val="c00000"/>
                </a:solidFill>
                <a:latin typeface="Calibri"/>
              </a:rPr>
              <a:t>графічні зображення </a:t>
            </a:r>
            <a:r>
              <a:rPr b="0" lang="uk-UA" sz="5600" spc="-1" strike="noStrike">
                <a:solidFill>
                  <a:srgbClr val="000000"/>
                </a:solidFill>
                <a:latin typeface="Calibri"/>
              </a:rPr>
              <a:t> трапляються у текстах для читання </a:t>
            </a: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PISA</a:t>
            </a:r>
            <a:endParaRPr b="0" lang="en-US" sz="5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600" spc="-1" strike="noStrike">
                <a:solidFill>
                  <a:srgbClr val="000000"/>
                </a:solidFill>
                <a:latin typeface="Calibri"/>
              </a:rPr>
              <a:t>як невід’ємна їх частина</a:t>
            </a:r>
            <a:r>
              <a:rPr b="0" lang="uk-UA" sz="3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71640" y="0"/>
            <a:ext cx="9251640" cy="90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0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Залучення нетекстового формату</a:t>
            </a: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ЗБІР НЕКТАРУ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7640" y="1052640"/>
            <a:ext cx="8948520" cy="5805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джоли-фуражери знаходять джерело нектару і потім повертаються до вулика, щоб розповісти іншим бджолам, де воно знаходиться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 малюнку зображен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джолу, яка виконує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анок всередині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улика на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оризонтальній поверхні медових стільників. Якщо середня частина цифри 8 указує чітко вгору, це означає, що бджоли знайдуть собі їжу, якщо полетять прямо до сонця. Якщо ж середня частина цифри 8 указує вправо, їжа знаходиться праворуч від сонця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Рисунок 4" descr=""/>
          <p:cNvPicPr/>
          <p:nvPr/>
        </p:nvPicPr>
        <p:blipFill>
          <a:blip r:embed="rId1"/>
          <a:stretch/>
        </p:blipFill>
        <p:spPr>
          <a:xfrm>
            <a:off x="4356000" y="2276640"/>
            <a:ext cx="4680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9:51:25Z</dcterms:created>
  <dc:creator>I</dc:creator>
  <dc:description/>
  <dc:language>en-US</dc:language>
  <cp:lastModifiedBy>Admin</cp:lastModifiedBy>
  <dcterms:modified xsi:type="dcterms:W3CDTF">2017-01-23T06:49:10Z</dcterms:modified>
  <cp:revision>183</cp:revision>
  <dc:subject/>
  <dc:title>Презентация PowerPoint</dc:title>
</cp:coreProperties>
</file>