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817A-2F5C-4721-B409-90AAD9848C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F4DE-16A8-4D23-AFCC-5D623A2E93B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2B9D-16EA-4CE2-AB04-B3F98BE5747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CCE-19DD-4E93-9970-0A7B9646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511-5B1A-4E18-9ACB-447DBA7C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70F-6346-4814-ACFB-3CCD10E5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4DB-A259-47A5-AEDC-1913CE12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5FD-B7FA-458B-A2BD-223526E6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450-A2EA-4A97-A481-D30F9E71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4F0-DDA7-4BFB-9534-70B85634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6D0-C4E8-43AF-A66F-EED5EEEF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5BF-A217-4580-8C4D-C1B746B5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3CA-FC96-4E3A-93BF-0E7939E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5C0-632C-4993-A800-39D9B46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AF3-5030-45A4-A2DA-B94DD498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8AA1-2967-489B-BE62-1A18C8C3ECAD}" type="slidenum">
              <a:rPr b="0" lang="uk-U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05960"/>
            <a:ext cx="8291520" cy="538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ISA 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2018</a:t>
            </a: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: </a:t>
            </a:r>
            <a:br>
              <a:rPr sz="4000"/>
            </a:br>
            <a:r>
              <a:rPr b="1" lang="uk-UA" sz="4300" spc="-1" strike="noStrike">
                <a:solidFill>
                  <a:srgbClr val="c00000"/>
                </a:solidFill>
                <a:latin typeface="Calibri"/>
              </a:rPr>
              <a:t>ЧИТАННЯ </a:t>
            </a:r>
            <a:br>
              <a:rPr sz="4300"/>
            </a:b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(провідна галузь дослідження)</a:t>
            </a:r>
            <a:br>
              <a:rPr sz="4000"/>
            </a:br>
            <a:r>
              <a:rPr b="1" i="1" lang="uk-UA" sz="4300" spc="-1" strike="noStrike">
                <a:solidFill>
                  <a:srgbClr val="c00000"/>
                </a:solidFill>
                <a:latin typeface="Calibri"/>
              </a:rPr>
              <a:t>ПРИКЛАДИ ЗАВДАНЬ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Завдання</a:t>
            </a: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: Яка мета танцю бджіл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uk-UA" sz="4400" spc="-1" strike="noStrike">
                <a:solidFill>
                  <a:srgbClr val="546422"/>
                </a:solidFill>
                <a:latin typeface="Calibri"/>
              </a:rPr>
              <a:t>   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дсвяткувати успішне виробництво меду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B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Вказати тип рослини, яку знайшли фуражери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C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Відсвяткувати народження нової бджолиної матки.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D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 Вказати, де фуражери знайшли їжу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Цілісні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ексти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907920"/>
            <a:ext cx="8713800" cy="5834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Цілісні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кладаються з речень, які організовані в абзац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газетні повідомленн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рис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омани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повіданн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ідгуки і листи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00000"/>
                </a:solidFill>
                <a:latin typeface="Calibri"/>
              </a:rPr>
              <a:t>Перервані тексти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764640"/>
            <a:ext cx="8229600" cy="597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це тексти у форматі матриці: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списк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таблиці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графік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діаграм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рекламні оголошення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розклад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каталоги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покажчики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бланки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Заголовок 1"/>
          <p:cNvGrpSpPr/>
          <p:nvPr/>
        </p:nvGrpSpPr>
        <p:grpSpPr>
          <a:xfrm>
            <a:off x="-42840" y="-30240"/>
            <a:ext cx="9156600" cy="2962440"/>
            <a:chOff x="-42840" y="-30240"/>
            <a:chExt cx="9156600" cy="2962440"/>
          </a:xfrm>
        </p:grpSpPr>
        <p:pic>
          <p:nvPicPr>
            <p:cNvPr id="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42840" y="-30240"/>
              <a:ext cx="9156600" cy="29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-36360" y="-27000"/>
              <a:ext cx="91440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br>
                <a:rPr sz="3200"/>
              </a:br>
              <a:br>
                <a:rPr sz="3200"/>
              </a:br>
              <a:br>
                <a:rPr sz="3200"/>
              </a:br>
              <a:r>
                <a:rPr b="0" lang="uk-UA" sz="3200" spc="-1" strike="noStrike">
                  <a:solidFill>
                    <a:srgbClr val="c00000"/>
                  </a:solidFill>
                  <a:latin typeface="Calibri"/>
                </a:rPr>
                <a:t>Перерваний текст: Бібліотечна система Морленда</a:t>
              </a:r>
              <a:br>
                <a:rPr sz="3200"/>
              </a:br>
              <a:r>
                <a:rPr b="1" lang="uk-UA" sz="3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uk-UA" sz="3200" spc="-1" strike="noStrike">
                  <a:solidFill>
                    <a:srgbClr val="000000"/>
                  </a:solidFill>
                  <a:latin typeface="Calibri"/>
                </a:rPr>
                <a:t>За бібліотечною системою Морленда нові члени бібліотеки отримують закладку з розкладом її роботи. </a:t>
              </a:r>
              <a:br>
                <a:rPr sz="3200"/>
              </a:br>
              <a:r>
                <a:rPr b="0" lang="uk-UA" sz="3200" spc="-1" strike="noStrike">
                  <a:solidFill>
                    <a:srgbClr val="000000"/>
                  </a:solidFill>
                  <a:latin typeface="Calibri"/>
                </a:rPr>
                <a:t>     Завдання 1:  Яка з бібліотек ще відкрита о 6-ій годині вечора по п’ятницях?</a:t>
              </a:r>
              <a:br>
                <a:rPr sz="2900"/>
              </a:br>
              <a:br>
                <a:rPr sz="2900"/>
              </a:br>
              <a:br>
                <a:rPr sz="3200"/>
              </a:br>
              <a:br>
                <a:rPr sz="3200"/>
              </a:b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Объект 8" descr=""/>
          <p:cNvPicPr/>
          <p:nvPr/>
        </p:nvPicPr>
        <p:blipFill>
          <a:blip r:embed="rId2"/>
          <a:stretch/>
        </p:blipFill>
        <p:spPr>
          <a:xfrm>
            <a:off x="34920" y="3068640"/>
            <a:ext cx="9037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Змішані тек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280" y="836280"/>
            <a:ext cx="8964720" cy="576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ановлять 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сукупність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ментів </a:t>
            </a: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цілісного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перерваного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формату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Приклади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358920" algn="just">
              <a:spcBef>
                <a:spcPts val="11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яснення в підручнику, яке   містить графік або таблицю;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Завдання: тип тексту – читацькі процес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907920"/>
          <a:ext cx="8856720" cy="5913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ИЧНИЙ тек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НОЖИННИЙ тек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лянути текст і знайти інформацію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ійснити пошук та відібрати актуальний текс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8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квальне розуміння написаног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уміння на основі умовиводу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уміння на основі умовивод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8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інити якість викладу і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овірність інформації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ислити зміст і форму текст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явити і подолати суперечні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Завда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836640"/>
            <a:ext cx="8785440" cy="5905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Традиційні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завдання на перевірку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розуміння прочитаного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(знайти інформацію, зробити висновок тощо)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Комплексні</a:t>
            </a: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завдання, наприклад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61416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знайти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 спільне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 відмінне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іж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декількома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текстами, у тому числі </a:t>
            </a: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різних форматів і т. ін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614160" algn="just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підкріпит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певну інформацію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фактам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з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кількох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текстів у тому числі </a:t>
            </a: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різних форматів і т. ін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560" y="-171720"/>
            <a:ext cx="9217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Приклад комплексного завдання: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разок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сценарію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 з трьома включеними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завданнями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.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4920" y="1506600"/>
            <a:ext cx="9037800" cy="696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понується прочитати три джерела: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90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ост з блог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90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ментарі після нь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90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статтю, на яку вказує один з коментаторів (Скотт Гаффінгтон «Чи закінчився золотий вік дослідження космосу?»)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ценарій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: Обговорюється дослідження космосу сьогодні та в майбутнь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чні мають виконати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3 завдання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які оцінюють різні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читацькі процес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авдання: Проглянь і знайди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(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одиничний текст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620280"/>
            <a:ext cx="9144000" cy="626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Згідно зі статтею Скотта Гаффінгтона «Чи закінчився золотий вік дослідження космосу?»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як вплинули приватні компанії на освоєння космосу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А</a:t>
            </a:r>
            <a:r>
              <a:rPr b="0" lang="uk-UA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риватні компанії показали, що вони можуть краще вести проекти дослідження космосу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Б</a:t>
            </a:r>
            <a:r>
              <a:rPr b="0" lang="uk-UA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Люди ставлять під сумнів необхідність існування державних космічних програм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В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ержавні установи втрачають фінансування у конкуренції з приватними компаніями, які надають ті ж послуги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Г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ержавні установи та приватні компанії ефективно співпрацюют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7920" y="140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авдання: Умовиводи на основі множинних текстів</a:t>
            </a:r>
            <a:br>
              <a:rPr sz="36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17960" y="2898720"/>
          <a:ext cx="1539720" cy="2544840"/>
        </p:xfrm>
        <a:graphic>
          <a:graphicData uri="http://schemas.openxmlformats.org/drawingml/2006/table">
            <a:tbl>
              <a:tblPr/>
              <a:tblGrid>
                <a:gridCol w="1539720"/>
              </a:tblGrid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жен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ал до досліджень космосу зменшив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 у дослідженні космосу протягом останніх років сповільнив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к людські, так і машинні польоти мають величезне значення для програм дослідження космос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Прямоугольник 1"/>
          <p:cNvSpPr/>
          <p:nvPr/>
        </p:nvSpPr>
        <p:spPr>
          <a:xfrm>
            <a:off x="71280" y="765000"/>
            <a:ext cx="9037800" cy="5821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. На основі того, що ви дізналися, позначте в таблиці всіх осіб, які б погодилися із наведеними твердженн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1280" y="2060640"/>
          <a:ext cx="3780000" cy="537984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ж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л до досліджень космосу зменшивс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 у дослідженні космосу протягом останніх років сповільнився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388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людські, так і машинні польоти мають величезне значення для програм дослідження космос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780000" y="1989000"/>
          <a:ext cx="5117760" cy="4651560"/>
        </p:xfrm>
        <a:graphic>
          <a:graphicData uri="http://schemas.openxmlformats.org/drawingml/2006/table">
            <a:tbl>
              <a:tblPr/>
              <a:tblGrid>
                <a:gridCol w="1728720"/>
                <a:gridCol w="1689120"/>
                <a:gridCol w="1699920"/>
              </a:tblGrid>
              <a:tr h="64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ффінгт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Йоші К</a:t>
                      </a: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сьє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9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01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Ме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599840"/>
            <a:ext cx="8424720" cy="4708440"/>
          </a:xfrm>
          <a:prstGeom prst="rect">
            <a:avLst/>
          </a:prstGeom>
          <a:solidFill>
            <a:srgbClr val="d9d9d9"/>
          </a:solidFill>
          <a:ln w="9360">
            <a:solidFill>
              <a:srgbClr val="f2f2f2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«зібрати реальні підтвердження рівня майстерності учнів з читання, </a:t>
            </a:r>
            <a:r>
              <a:rPr b="0" i="1" lang="uk-UA" sz="4000" spc="-1" strike="noStrike">
                <a:solidFill>
                  <a:srgbClr val="c00000"/>
                </a:solidFill>
                <a:latin typeface="Calibri"/>
              </a:rPr>
              <a:t>організувавши читацьку діяльність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, яку вони могли би здійснювати в школі або за її межами в підлітковому або в дорослому віці»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Завдання:  Оціни і осмисли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980640"/>
            <a:ext cx="8686800" cy="576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6686d"/>
                </a:solidFill>
                <a:latin typeface="Calibri"/>
              </a:rPr>
              <a:t>Подумай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, як Скотт Гаффінгтон писав свою статтю, і як люди писали коментарі у відповідь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 основі цієї інформації </a:t>
            </a:r>
            <a:r>
              <a:rPr b="1" lang="uk-UA" sz="4000" spc="-1" strike="noStrike">
                <a:solidFill>
                  <a:srgbClr val="08684e"/>
                </a:solidFill>
                <a:latin typeface="Calibri"/>
              </a:rPr>
              <a:t>напиши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коментар, який пояснює </a:t>
            </a: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дві першочергові переваги дослідження космосу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8684e"/>
                </a:solidFill>
                <a:latin typeface="Calibri"/>
              </a:rPr>
              <a:t>Підкріпи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свою відповідь інформацією із цих статей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Calibri"/>
              </a:rPr>
              <a:t>Дякую за увагу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ISA 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2018: читацька грамотні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Объект 8" descr=""/>
          <p:cNvPicPr/>
          <p:nvPr/>
        </p:nvPicPr>
        <p:blipFill>
          <a:blip r:embed="rId1"/>
          <a:stretch/>
        </p:blipFill>
        <p:spPr>
          <a:xfrm>
            <a:off x="-6480" y="944640"/>
            <a:ext cx="89488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0"/>
          <p:cNvSpPr/>
          <p:nvPr/>
        </p:nvSpPr>
        <p:spPr>
          <a:xfrm>
            <a:off x="5292720" y="4941720"/>
            <a:ext cx="2879640" cy="432000"/>
          </a:xfrm>
          <a:prstGeom prst="rect">
            <a:avLst/>
          </a:prstGeom>
          <a:solidFill>
            <a:srgbClr val="0f6fc6"/>
          </a:solidFill>
          <a:ln w="15840">
            <a:solidFill>
              <a:srgbClr val="053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4520" y="-59040"/>
            <a:ext cx="83628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Вимірювання читацької грамотності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980640"/>
            <a:ext cx="8785080" cy="5805720"/>
          </a:xfrm>
          <a:prstGeom prst="rect">
            <a:avLst/>
          </a:prstGeom>
          <a:solidFill>
            <a:srgbClr val="d9d9d9"/>
          </a:solidFill>
          <a:ln w="9360">
            <a:solidFill>
              <a:srgbClr val="0f6fc6"/>
            </a:solidFill>
            <a:miter/>
          </a:ln>
        </p:spPr>
        <p:txBody>
          <a:bodyPr anchor="t">
            <a:normAutofit fontScale="77000"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имірюється в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ISA</a:t>
            </a: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 за трьома джерелами впливу</a:t>
            </a:r>
            <a:r>
              <a:rPr b="0" lang="uk-UA" sz="3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uk-UA" sz="3400" spc="-1" strike="noStrike">
                <a:solidFill>
                  <a:srgbClr val="000000"/>
                </a:solidFill>
                <a:latin typeface="Calibri"/>
              </a:rPr>
              <a:t>читач</a:t>
            </a: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uk-UA" sz="3400" spc="-1" strike="noStrike">
                <a:solidFill>
                  <a:srgbClr val="000000"/>
                </a:solidFill>
                <a:latin typeface="Calibri"/>
              </a:rPr>
              <a:t>текст, завдання</a:t>
            </a: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b5395"/>
                </a:solidFill>
                <a:latin typeface="Calibri"/>
              </a:rPr>
              <a:t>читач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читацька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грамотність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uk-UA" sz="3700" spc="-1" strike="noStrike">
                <a:solidFill>
                  <a:srgbClr val="0b5395"/>
                </a:solidFill>
                <a:latin typeface="Calibri"/>
              </a:rPr>
              <a:t>                    </a:t>
            </a:r>
            <a:r>
              <a:rPr b="0" lang="uk-UA" sz="3700" spc="-1" strike="noStrike">
                <a:solidFill>
                  <a:srgbClr val="0b5395"/>
                </a:solidFill>
                <a:latin typeface="Calibri"/>
              </a:rPr>
              <a:t>текст             завдання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Це визначає </a:t>
            </a:r>
            <a:r>
              <a:rPr b="1" lang="uk-UA" sz="3300" spc="-1" strike="noStrike">
                <a:solidFill>
                  <a:srgbClr val="000000"/>
                </a:solidFill>
                <a:latin typeface="Calibri"/>
              </a:rPr>
              <a:t>важливість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uk-UA" sz="3600" spc="-1" strike="noStrike">
                <a:solidFill>
                  <a:srgbClr val="0f6fc6"/>
                </a:solidFill>
                <a:latin typeface="Calibri"/>
              </a:rPr>
              <a:t>д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обору</a:t>
            </a: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текстів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розробки</a:t>
            </a: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завдань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6" name="Прямая со стрелкой 36"/>
          <p:cNvCxnSpPr/>
          <p:nvPr/>
        </p:nvCxnSpPr>
        <p:spPr>
          <a:xfrm>
            <a:off x="4642920" y="2924280"/>
            <a:ext cx="1080" cy="2894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57" name="Прямая со стрелкой 38"/>
          <p:cNvCxnSpPr/>
          <p:nvPr/>
        </p:nvCxnSpPr>
        <p:spPr>
          <a:xfrm flipH="1" flipV="1">
            <a:off x="5003280" y="3989160"/>
            <a:ext cx="937440" cy="2880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58" name="Прямая со стрелкой 40"/>
          <p:cNvCxnSpPr/>
          <p:nvPr/>
        </p:nvCxnSpPr>
        <p:spPr>
          <a:xfrm flipV="1">
            <a:off x="3131640" y="4005000"/>
            <a:ext cx="1296360" cy="2880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720" y="-360"/>
            <a:ext cx="9288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Тексти:  одиничні й множинні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936720"/>
            <a:ext cx="8785440" cy="5805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Одиничні тексти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мають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втора,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назву і час написання або дату публікації і номер виданн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Множинні тексти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– мають кількох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різних авторів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, були опубліковані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в різний час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, були подані під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різними заголовками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чи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номерами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6407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Множинний текст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1" i="1" lang="uk-UA" sz="3600" spc="-1" strike="noStrike">
                <a:solidFill>
                  <a:srgbClr val="c00000"/>
                </a:solidFill>
                <a:latin typeface="Calibri"/>
              </a:rPr>
              <a:t> ГРАФІТІ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484280"/>
            <a:ext cx="9144000" cy="5113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дані нижче листи надійшли з Інтернету, й обидва вони про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графіт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Завдання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Використайте ці листи для відповідей на запитання, запропонованих нижче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-27000"/>
            <a:ext cx="8640720" cy="691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Я киплю від злості, оскільки в четвертий раз стіну школи очищають і перефарбовують, щоб покінчити з графіті. Творчість – це прекрасно, але чому ж не знайти такі способи самовиразу, які не завдавали б зайвих збитків суспільству? .…………</a:t>
            </a:r>
            <a:r>
              <a:rPr b="0" i="1" lang="uk-UA" sz="2400" spc="-1" strike="noStrike">
                <a:solidFill>
                  <a:srgbClr val="546422"/>
                </a:solidFill>
                <a:latin typeface="Calibri"/>
              </a:rPr>
              <a:t>...............…………………………………………………….…….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Хельг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uk-UA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6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3200" spc="-1" strike="noStrike">
                <a:solidFill>
                  <a:srgbClr val="083763"/>
                </a:solidFill>
                <a:latin typeface="Calibri"/>
              </a:rPr>
              <a:t>У </a:t>
            </a:r>
            <a:r>
              <a:rPr b="0" i="1" lang="uk-UA" sz="3200" spc="-1" strike="noStrike">
                <a:solidFill>
                  <a:srgbClr val="083763"/>
                </a:solidFill>
                <a:latin typeface="Calibri"/>
              </a:rPr>
              <a:t>людей різні смаки. Суспільство перенасичене інформацією  та рекламою. А чи запитали ті, хто ставить рекламні щити, вашого дозволу? Ні. Тоді чи повинні це робити люди, які малюють на стінах? Так, скрутні часи настали для мистецтв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………….......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Софі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f6fc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 </a:t>
            </a:r>
            <a:r>
              <a:rPr b="1" lang="uk-UA" sz="3600" spc="-1" strike="noStrike">
                <a:solidFill>
                  <a:srgbClr val="0f6fc6"/>
                </a:solidFill>
                <a:latin typeface="Calibri"/>
              </a:rPr>
              <a:t>Чому Софія посилається на рекламу</a:t>
            </a: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Завдання: Викладіть свою думк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53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42472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00000"/>
                </a:solidFill>
                <a:latin typeface="Calibri"/>
              </a:rPr>
              <a:t>Нетекстові формат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12640"/>
            <a:ext cx="8362800" cy="504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600" spc="-1" strike="noStrike">
                <a:solidFill>
                  <a:srgbClr val="c00000"/>
                </a:solidFill>
                <a:latin typeface="Calibri"/>
              </a:rPr>
              <a:t>Малюнки </a:t>
            </a:r>
            <a:r>
              <a:rPr b="0" lang="uk-UA" sz="5600" spc="-1" strike="noStrike">
                <a:solidFill>
                  <a:srgbClr val="000000"/>
                </a:solidFill>
                <a:latin typeface="Calibri"/>
              </a:rPr>
              <a:t>і </a:t>
            </a:r>
            <a:r>
              <a:rPr b="0" i="1" lang="uk-UA" sz="5600" spc="-1" strike="noStrike">
                <a:solidFill>
                  <a:srgbClr val="c00000"/>
                </a:solidFill>
                <a:latin typeface="Calibri"/>
              </a:rPr>
              <a:t>графічні зображення </a:t>
            </a:r>
            <a:r>
              <a:rPr b="0" lang="uk-UA" sz="5600" spc="-1" strike="noStrike">
                <a:solidFill>
                  <a:srgbClr val="000000"/>
                </a:solidFill>
                <a:latin typeface="Calibri"/>
              </a:rPr>
              <a:t> трапляються у текстах для читання 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PISA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Calibri"/>
              </a:rPr>
              <a:t>як невід’ємна їх частина</a:t>
            </a: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71640" y="0"/>
            <a:ext cx="925164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Залучення нетекстового формату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ЗБІР НЕКТАРУ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7640" y="1052640"/>
            <a:ext cx="8948520" cy="5805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джоли-фуражери знаходять джерело нектару і потім повертаються до вулика, щоб розповісти іншим бджолам, де воно знаходиться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 малюнку зображен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джолу, яка викону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анок всередині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улика н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ризонтальній поверхні медових стільників. Якщо середня частина цифри 8 указує чітко вгору, це означає, що бджоли знайдуть собі їжу, якщо полетять прямо до сонця. Якщо ж середня частина цифри 8 указує вправо, їжа знаходиться праворуч від сонця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4356000" y="2276640"/>
            <a:ext cx="468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9:51:25Z</dcterms:created>
  <dc:creator>I</dc:creator>
  <dc:description/>
  <dc:language>en-US</dc:language>
  <cp:lastModifiedBy>Admin</cp:lastModifiedBy>
  <dcterms:modified xsi:type="dcterms:W3CDTF">2017-01-23T06:49:10Z</dcterms:modified>
  <cp:revision>183</cp:revision>
  <dc:subject/>
  <dc:title>Презентация PowerPoint</dc:title>
</cp:coreProperties>
</file>