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981-72C0-4584-9B06-E7A4E1F4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CCD-639A-4265-9874-4A9245CE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B7B-8FE9-4CD0-9850-6D4D591B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63D-1828-4F75-8AA7-EC526638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D0BC-C788-4863-90B4-586B3320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AE7C-242C-41D9-A7BE-4A8BB880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8516-678A-4929-ADEB-6C5BD247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45F5-E018-4612-94F8-B59EE922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50A9-5326-4A3D-A4BD-B657C489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98C6-F771-46ED-B78F-039CC41E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751-30AA-4C2E-A5EB-041CC04F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2C9-C2FE-4021-B7F7-12F71A90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0F04-F7A8-446F-A538-9F2D223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880A-62E5-4C8C-A9A5-970706A6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100B-E203-4B7D-B59B-3C04EDB2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4771-9619-43BE-A8F8-F37C9FFA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FF5B-C98C-4DFE-B651-D9ED9AA0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CBF-51CD-4E73-850F-86EA3BCA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CAB-F0CD-499B-83AF-3473407B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068-6D07-484B-BC50-D295679B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BB1-4707-4721-B7FC-B37389A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57A-7E64-4B6A-9362-6657A72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A32-3E85-405E-BEDE-95E021F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796-BB02-48DA-BC04-A5CAF354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3375-CB16-4C29-9401-01A9AEB1F7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CBC-4197-4100-B2CB-D1B2FE13DC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0"/>
            <a:ext cx="6300720" cy="666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605016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ndara"/>
              </a:rPr>
              <a:t>PISA-</a:t>
            </a:r>
            <a:r>
              <a:rPr b="1" lang="uk-UA" sz="3600" spc="-1" strike="noStrike">
                <a:solidFill>
                  <a:srgbClr val="ffffff"/>
                </a:solidFill>
                <a:latin typeface="Candara"/>
              </a:rPr>
              <a:t>2018: </a:t>
            </a:r>
            <a:br>
              <a:rPr sz="3600"/>
            </a:br>
            <a:r>
              <a:rPr b="0" lang="uk-UA" sz="2800" spc="-1" strike="noStrike">
                <a:solidFill>
                  <a:srgbClr val="ffffff"/>
                </a:solidFill>
                <a:latin typeface="Candara"/>
              </a:rPr>
              <a:t>Оцінювання математичної   грамотності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300360" y="1520640"/>
            <a:ext cx="269892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4d4d00"/>
                </a:solidFill>
                <a:latin typeface="Candara"/>
              </a:rPr>
              <a:t>Віктор Горо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4d4d00"/>
                </a:solidFill>
                <a:latin typeface="Candara"/>
              </a:rPr>
              <a:t>Харків</a:t>
            </a:r>
            <a:r>
              <a:rPr b="0" i="1" lang="ru-RU" sz="1800" spc="-1" strike="noStrike">
                <a:solidFill>
                  <a:srgbClr val="4d4d00"/>
                </a:solidFill>
                <a:latin typeface="Candara"/>
              </a:rPr>
              <a:t>, 13 грудня 2016 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Группа 6"/>
          <p:cNvGrpSpPr/>
          <p:nvPr/>
        </p:nvGrpSpPr>
        <p:grpSpPr>
          <a:xfrm>
            <a:off x="324000" y="3573360"/>
            <a:ext cx="6048360" cy="2438640"/>
            <a:chOff x="324000" y="3573360"/>
            <a:chExt cx="6048360" cy="2438640"/>
          </a:xfrm>
        </p:grpSpPr>
        <p:pic>
          <p:nvPicPr>
            <p:cNvPr id="94" name="Picture 6" descr=""/>
            <p:cNvPicPr/>
            <p:nvPr/>
          </p:nvPicPr>
          <p:blipFill>
            <a:blip r:embed="rId1"/>
            <a:stretch/>
          </p:blipFill>
          <p:spPr>
            <a:xfrm>
              <a:off x="324000" y="3573360"/>
              <a:ext cx="3672000" cy="243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5" descr=""/>
            <p:cNvPicPr/>
            <p:nvPr/>
          </p:nvPicPr>
          <p:blipFill>
            <a:blip r:embed="rId2"/>
            <a:stretch/>
          </p:blipFill>
          <p:spPr>
            <a:xfrm>
              <a:off x="3924360" y="3573360"/>
              <a:ext cx="2448000" cy="243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324000" y="1449360"/>
            <a:ext cx="7981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87280" y="1233360"/>
            <a:ext cx="8296200" cy="5305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Группа 13"/>
          <p:cNvGrpSpPr/>
          <p:nvPr/>
        </p:nvGrpSpPr>
        <p:grpSpPr>
          <a:xfrm>
            <a:off x="7667640" y="6176880"/>
            <a:ext cx="1476360" cy="681120"/>
            <a:chOff x="7667640" y="6176880"/>
            <a:chExt cx="1476360" cy="681120"/>
          </a:xfrm>
        </p:grpSpPr>
        <p:pic>
          <p:nvPicPr>
            <p:cNvPr id="153" name="Picture 5" descr=""/>
            <p:cNvPicPr/>
            <p:nvPr/>
          </p:nvPicPr>
          <p:blipFill>
            <a:blip r:embed="rId2"/>
            <a:stretch/>
          </p:blipFill>
          <p:spPr>
            <a:xfrm>
              <a:off x="7667640" y="624816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6" descr=""/>
            <p:cNvPicPr/>
            <p:nvPr/>
          </p:nvPicPr>
          <p:blipFill>
            <a:blip r:embed="rId3"/>
            <a:stretch/>
          </p:blipFill>
          <p:spPr>
            <a:xfrm>
              <a:off x="8459640" y="617688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Группа 13"/>
          <p:cNvGrpSpPr/>
          <p:nvPr/>
        </p:nvGrpSpPr>
        <p:grpSpPr>
          <a:xfrm>
            <a:off x="7667640" y="6176880"/>
            <a:ext cx="1476360" cy="681120"/>
            <a:chOff x="7667640" y="6176880"/>
            <a:chExt cx="1476360" cy="681120"/>
          </a:xfrm>
        </p:grpSpPr>
        <p:pic>
          <p:nvPicPr>
            <p:cNvPr id="157" name="Picture 5" descr=""/>
            <p:cNvPicPr/>
            <p:nvPr/>
          </p:nvPicPr>
          <p:blipFill>
            <a:blip r:embed="rId1"/>
            <a:stretch/>
          </p:blipFill>
          <p:spPr>
            <a:xfrm>
              <a:off x="7667640" y="624816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"/>
            <p:cNvPicPr/>
            <p:nvPr/>
          </p:nvPicPr>
          <p:blipFill>
            <a:blip r:embed="rId2"/>
            <a:stretch/>
          </p:blipFill>
          <p:spPr>
            <a:xfrm>
              <a:off x="8459640" y="617688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216000" y="1700280"/>
            <a:ext cx="8296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368280"/>
            <a:ext cx="81010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Феномен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Естонії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Группа 13"/>
          <p:cNvGrpSpPr/>
          <p:nvPr/>
        </p:nvGrpSpPr>
        <p:grpSpPr>
          <a:xfrm>
            <a:off x="7667640" y="6176880"/>
            <a:ext cx="1476360" cy="681120"/>
            <a:chOff x="7667640" y="6176880"/>
            <a:chExt cx="1476360" cy="681120"/>
          </a:xfrm>
        </p:grpSpPr>
        <p:pic>
          <p:nvPicPr>
            <p:cNvPr id="162" name="Picture 5" descr=""/>
            <p:cNvPicPr/>
            <p:nvPr/>
          </p:nvPicPr>
          <p:blipFill>
            <a:blip r:embed="rId1"/>
            <a:stretch/>
          </p:blipFill>
          <p:spPr>
            <a:xfrm>
              <a:off x="7667640" y="624816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"/>
            <p:cNvPicPr/>
            <p:nvPr/>
          </p:nvPicPr>
          <p:blipFill>
            <a:blip r:embed="rId2"/>
            <a:stretch/>
          </p:blipFill>
          <p:spPr>
            <a:xfrm>
              <a:off x="8459640" y="617688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2" descr=""/>
          <p:cNvPicPr/>
          <p:nvPr/>
        </p:nvPicPr>
        <p:blipFill>
          <a:blip r:embed="rId3"/>
          <a:stretch/>
        </p:blipFill>
        <p:spPr>
          <a:xfrm>
            <a:off x="2592360" y="333360"/>
            <a:ext cx="581976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576360" y="2529000"/>
            <a:ext cx="802800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Группа 6"/>
          <p:cNvGrpSpPr/>
          <p:nvPr/>
        </p:nvGrpSpPr>
        <p:grpSpPr>
          <a:xfrm>
            <a:off x="2592360" y="3824280"/>
            <a:ext cx="6048360" cy="2438280"/>
            <a:chOff x="2592360" y="3824280"/>
            <a:chExt cx="6048360" cy="2438280"/>
          </a:xfrm>
        </p:grpSpPr>
        <p:pic>
          <p:nvPicPr>
            <p:cNvPr id="167" name="Picture 6" descr=""/>
            <p:cNvPicPr/>
            <p:nvPr/>
          </p:nvPicPr>
          <p:blipFill>
            <a:blip r:embed="rId1"/>
            <a:stretch/>
          </p:blipFill>
          <p:spPr>
            <a:xfrm>
              <a:off x="2592360" y="3824280"/>
              <a:ext cx="3672000" cy="24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5" descr=""/>
            <p:cNvPicPr/>
            <p:nvPr/>
          </p:nvPicPr>
          <p:blipFill>
            <a:blip r:embed="rId2"/>
            <a:stretch/>
          </p:blipFill>
          <p:spPr>
            <a:xfrm>
              <a:off x="6192720" y="3824280"/>
              <a:ext cx="244800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атематич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на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грамотність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98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87280" y="1591920"/>
            <a:ext cx="864072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4d4d00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4d4d00"/>
                </a:solidFill>
                <a:latin typeface="Candara"/>
              </a:rPr>
              <a:t>Математич</a:t>
            </a:r>
            <a:r>
              <a:rPr b="1" lang="uk-UA" sz="2400" spc="-1" strike="noStrike">
                <a:solidFill>
                  <a:srgbClr val="4d4d00"/>
                </a:solidFill>
                <a:latin typeface="Candara"/>
              </a:rPr>
              <a:t>на</a:t>
            </a:r>
            <a:r>
              <a:rPr b="1" lang="ru-RU" sz="2400" spc="-1" strike="noStrike">
                <a:solidFill>
                  <a:srgbClr val="4d4d00"/>
                </a:solidFill>
                <a:latin typeface="Candara"/>
              </a:rPr>
              <a:t> грамотність </a:t>
            </a: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– здатність індивідума формулювати, застосовувати й інтерпретувати математику в разноманітних контекст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d4d00"/>
                </a:solidFill>
                <a:latin typeface="Candar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МГ включає математичні міркування, використання математичних понять, процедур, фактів й інструментів, щоб описати, пояснити й передбачити явищ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d4d00"/>
                </a:solidFill>
                <a:latin typeface="Candara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МГ допомагає людям зрозуміти роль математики у світі, висловлювати добре обгрунтовані судження й  приймати рішення, необхідні конструктивному, активному й думаючому громадяни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250920" y="3321000"/>
            <a:ext cx="6172200" cy="3314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3333600" y="1268280"/>
            <a:ext cx="58104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09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3333600" y="1233360"/>
            <a:ext cx="5810400" cy="2476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4"/>
          <a:stretch/>
        </p:blipFill>
        <p:spPr>
          <a:xfrm>
            <a:off x="576360" y="2997360"/>
            <a:ext cx="65437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15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3132000" y="1268280"/>
            <a:ext cx="5810400" cy="247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358920" y="3068640"/>
            <a:ext cx="6048360" cy="131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358920" y="4400640"/>
            <a:ext cx="60004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22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3095640" y="1268280"/>
            <a:ext cx="5810400" cy="2476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4"/>
          <a:stretch/>
        </p:blipFill>
        <p:spPr>
          <a:xfrm>
            <a:off x="431640" y="3897360"/>
            <a:ext cx="62582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9280" y="2673360"/>
            <a:ext cx="5653080" cy="3556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29" name="Picture 5" descr=""/>
            <p:cNvPicPr/>
            <p:nvPr/>
          </p:nvPicPr>
          <p:blipFill>
            <a:blip r:embed="rId2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"/>
            <p:cNvPicPr/>
            <p:nvPr/>
          </p:nvPicPr>
          <p:blipFill>
            <a:blip r:embed="rId3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3095640" y="1268280"/>
            <a:ext cx="58104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358920" y="1341360"/>
            <a:ext cx="3895560" cy="428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35" name="Picture 5" descr=""/>
            <p:cNvPicPr/>
            <p:nvPr/>
          </p:nvPicPr>
          <p:blipFill>
            <a:blip r:embed="rId2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"/>
            <p:cNvPicPr/>
            <p:nvPr/>
          </p:nvPicPr>
          <p:blipFill>
            <a:blip r:embed="rId3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2" descr=""/>
          <p:cNvPicPr/>
          <p:nvPr/>
        </p:nvPicPr>
        <p:blipFill>
          <a:blip r:embed="rId4"/>
          <a:srcRect l="2501" t="0" r="0" b="0"/>
          <a:stretch/>
        </p:blipFill>
        <p:spPr>
          <a:xfrm>
            <a:off x="4176720" y="1268280"/>
            <a:ext cx="4211640" cy="3897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5"/>
          <a:stretch/>
        </p:blipFill>
        <p:spPr>
          <a:xfrm>
            <a:off x="503280" y="4905360"/>
            <a:ext cx="6391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0" y="1268280"/>
            <a:ext cx="5391000" cy="4781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4"/>
          <a:stretch/>
        </p:blipFill>
        <p:spPr>
          <a:xfrm>
            <a:off x="4932360" y="4616280"/>
            <a:ext cx="4010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43:20Z</dcterms:created>
  <dc:creator>Victor</dc:creator>
  <dc:description/>
  <dc:language>en-US</dc:language>
  <cp:lastModifiedBy>Admin</cp:lastModifiedBy>
  <dcterms:modified xsi:type="dcterms:W3CDTF">2017-01-23T06:48:39Z</dcterms:modified>
  <cp:revision>151</cp:revision>
  <dc:subject/>
  <dc:title>Використання результатів ЗНО для оцінювання результативності роботи шкіл</dc:title>
</cp:coreProperties>
</file>