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12A-5608-4CB2-AC4C-AC6A6BC1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193-57DE-4431-A53F-6DCF9BC3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7BE-563A-46CE-BDB0-33639D0E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CA4-92CB-489E-8564-6DC69A92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A420-938A-4544-AF6A-DAF02BB4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B52B-05AA-431F-8730-2DDF2A1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5B21-CF32-43A3-AF79-04A2E2FE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1F02-5B08-4AFF-9E56-D11C68F1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939C-C4FC-4A4F-B7EE-3395D023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F8F3-8241-43F7-B3D3-9CE34B2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5A0B-78EA-4C28-9CF4-82EBFF8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4A5-35F9-4B79-8619-C1580BC4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074C-1BA2-4155-AE42-BE09828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DB2D-9EAA-455A-934F-FE63EAF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32A8-F207-4BAF-A438-B79AF584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C1FF-BE10-419C-B28C-28FCD58E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FC1A-48F3-4583-AE35-03BBCDBC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89D-0F41-4CCB-B240-8EED582E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469-6B75-4EC9-9823-090C8046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F87-D8EE-4547-A6AF-889B3B5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D09-1152-4F59-B038-CF56826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14C-51AD-42A2-BD6C-A5E4E8B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147-FFDC-43A8-A84A-6E8F2F3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19E-931B-4032-B5A9-9370568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8EE0-915F-45B5-9282-9012AC3A60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6FA-45F3-41DE-A584-9E6AF3C9E0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0"/>
            <a:ext cx="6300720" cy="666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60501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PISA-</a:t>
            </a:r>
            <a:r>
              <a:rPr b="1" lang="uk-UA" sz="3600" spc="-1" strike="noStrike">
                <a:solidFill>
                  <a:srgbClr val="ffffff"/>
                </a:solidFill>
                <a:latin typeface="Candara"/>
              </a:rPr>
              <a:t>2018: </a:t>
            </a:r>
            <a:br>
              <a:rPr sz="3600"/>
            </a:br>
            <a:r>
              <a:rPr b="0" lang="uk-UA" sz="2800" spc="-1" strike="noStrike">
                <a:solidFill>
                  <a:srgbClr val="ffffff"/>
                </a:solidFill>
                <a:latin typeface="Candara"/>
              </a:rPr>
              <a:t>Оцінювання математичної   грамотності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300360" y="1520640"/>
            <a:ext cx="269892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d4d00"/>
                </a:solidFill>
                <a:latin typeface="Candara"/>
              </a:rPr>
              <a:t>Віктор Горо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4d4d00"/>
                </a:solidFill>
                <a:latin typeface="Candara"/>
              </a:rPr>
              <a:t>Харків</a:t>
            </a:r>
            <a:r>
              <a:rPr b="0" i="1" lang="ru-RU" sz="1800" spc="-1" strike="noStrike">
                <a:solidFill>
                  <a:srgbClr val="4d4d00"/>
                </a:solidFill>
                <a:latin typeface="Candara"/>
              </a:rPr>
              <a:t>, 13 грудня 2016 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Группа 6"/>
          <p:cNvGrpSpPr/>
          <p:nvPr/>
        </p:nvGrpSpPr>
        <p:grpSpPr>
          <a:xfrm>
            <a:off x="324000" y="3573360"/>
            <a:ext cx="6048360" cy="2438640"/>
            <a:chOff x="324000" y="3573360"/>
            <a:chExt cx="6048360" cy="2438640"/>
          </a:xfrm>
        </p:grpSpPr>
        <p:pic>
          <p:nvPicPr>
            <p:cNvPr id="94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3573360"/>
              <a:ext cx="3672000" cy="243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"/>
            <p:cNvPicPr/>
            <p:nvPr/>
          </p:nvPicPr>
          <p:blipFill>
            <a:blip r:embed="rId2"/>
            <a:stretch/>
          </p:blipFill>
          <p:spPr>
            <a:xfrm>
              <a:off x="3924360" y="3573360"/>
              <a:ext cx="2448000" cy="243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4000" y="1449360"/>
            <a:ext cx="7981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87280" y="1233360"/>
            <a:ext cx="8296200" cy="5305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53" name="Picture 5" descr=""/>
            <p:cNvPicPr/>
            <p:nvPr/>
          </p:nvPicPr>
          <p:blipFill>
            <a:blip r:embed="rId2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6" descr=""/>
            <p:cNvPicPr/>
            <p:nvPr/>
          </p:nvPicPr>
          <p:blipFill>
            <a:blip r:embed="rId3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57" name="Picture 5" descr=""/>
            <p:cNvPicPr/>
            <p:nvPr/>
          </p:nvPicPr>
          <p:blipFill>
            <a:blip r:embed="rId1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6" descr=""/>
            <p:cNvPicPr/>
            <p:nvPr/>
          </p:nvPicPr>
          <p:blipFill>
            <a:blip r:embed="rId2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16000" y="1700280"/>
            <a:ext cx="829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368280"/>
            <a:ext cx="81010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Феномен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Естоні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Группа 13"/>
          <p:cNvGrpSpPr/>
          <p:nvPr/>
        </p:nvGrpSpPr>
        <p:grpSpPr>
          <a:xfrm>
            <a:off x="7667640" y="6176880"/>
            <a:ext cx="1476360" cy="681120"/>
            <a:chOff x="7667640" y="6176880"/>
            <a:chExt cx="1476360" cy="681120"/>
          </a:xfrm>
        </p:grpSpPr>
        <p:pic>
          <p:nvPicPr>
            <p:cNvPr id="162" name="Picture 5" descr=""/>
            <p:cNvPicPr/>
            <p:nvPr/>
          </p:nvPicPr>
          <p:blipFill>
            <a:blip r:embed="rId1"/>
            <a:stretch/>
          </p:blipFill>
          <p:spPr>
            <a:xfrm>
              <a:off x="7667640" y="624816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"/>
            <p:cNvPicPr/>
            <p:nvPr/>
          </p:nvPicPr>
          <p:blipFill>
            <a:blip r:embed="rId2"/>
            <a:stretch/>
          </p:blipFill>
          <p:spPr>
            <a:xfrm>
              <a:off x="8459640" y="617688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2" descr=""/>
          <p:cNvPicPr/>
          <p:nvPr/>
        </p:nvPicPr>
        <p:blipFill>
          <a:blip r:embed="rId3"/>
          <a:stretch/>
        </p:blipFill>
        <p:spPr>
          <a:xfrm>
            <a:off x="2592360" y="333360"/>
            <a:ext cx="581976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76360" y="2529000"/>
            <a:ext cx="802800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якую за увагу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Группа 6"/>
          <p:cNvGrpSpPr/>
          <p:nvPr/>
        </p:nvGrpSpPr>
        <p:grpSpPr>
          <a:xfrm>
            <a:off x="2592360" y="3824280"/>
            <a:ext cx="6048360" cy="2438280"/>
            <a:chOff x="2592360" y="3824280"/>
            <a:chExt cx="6048360" cy="2438280"/>
          </a:xfrm>
        </p:grpSpPr>
        <p:pic>
          <p:nvPicPr>
            <p:cNvPr id="167" name="Picture 6" descr=""/>
            <p:cNvPicPr/>
            <p:nvPr/>
          </p:nvPicPr>
          <p:blipFill>
            <a:blip r:embed="rId1"/>
            <a:stretch/>
          </p:blipFill>
          <p:spPr>
            <a:xfrm>
              <a:off x="2592360" y="3824280"/>
              <a:ext cx="3672000" cy="24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6192720" y="3824280"/>
              <a:ext cx="244800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атематич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на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грамотніст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98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87280" y="1591920"/>
            <a:ext cx="864072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d4d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4d4d00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4d4d00"/>
                </a:solidFill>
                <a:latin typeface="Candara"/>
              </a:rPr>
              <a:t>Математич</a:t>
            </a:r>
            <a:r>
              <a:rPr b="1" lang="uk-UA" sz="2400" spc="-1" strike="noStrike">
                <a:solidFill>
                  <a:srgbClr val="4d4d00"/>
                </a:solidFill>
                <a:latin typeface="Candara"/>
              </a:rPr>
              <a:t>на</a:t>
            </a:r>
            <a:r>
              <a:rPr b="1" lang="ru-RU" sz="2400" spc="-1" strike="noStrike">
                <a:solidFill>
                  <a:srgbClr val="4d4d00"/>
                </a:solidFill>
                <a:latin typeface="Candara"/>
              </a:rPr>
              <a:t> грамотність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– здатність індивідума формулювати, застосовувати й інтерпретувати математику в разноманітних контекс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d4d00"/>
                </a:solidFill>
                <a:latin typeface="Candar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d4d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МГ включає математичні міркування, використання математичних понять, процедур, фактів й інструментів, щоб описати, пояснити й передбачити явищ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d4d00"/>
                </a:solidFill>
                <a:latin typeface="Candara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4d4d00"/>
                </a:solidFill>
                <a:latin typeface="Candara"/>
              </a:rPr>
              <a:t>МГ допомагає людям зрозуміти роль математики у світі, висловлювати добре обгрунтовані судження й  приймати рішення, необхідні конструктивному, активному й думаючому громадян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250920" y="3321000"/>
            <a:ext cx="6172200" cy="3314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3333600" y="1268280"/>
            <a:ext cx="5810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09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3333600" y="123336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4"/>
          <a:stretch/>
        </p:blipFill>
        <p:spPr>
          <a:xfrm>
            <a:off x="576360" y="2997360"/>
            <a:ext cx="6543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15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3132000" y="126828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358920" y="3068640"/>
            <a:ext cx="6048360" cy="131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358920" y="4400640"/>
            <a:ext cx="60004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22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3095640" y="1268280"/>
            <a:ext cx="5810400" cy="2476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431640" y="3897360"/>
            <a:ext cx="62582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9280" y="2673360"/>
            <a:ext cx="5653080" cy="3556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Яблун</a:t>
            </a: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і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29" name="Picture 5" descr=""/>
            <p:cNvPicPr/>
            <p:nvPr/>
          </p:nvPicPr>
          <p:blipFill>
            <a:blip r:embed="rId2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"/>
            <p:cNvPicPr/>
            <p:nvPr/>
          </p:nvPicPr>
          <p:blipFill>
            <a:blip r:embed="rId3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3095640" y="1268280"/>
            <a:ext cx="5810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8920" y="1341360"/>
            <a:ext cx="3895560" cy="428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35" name="Picture 5" descr=""/>
            <p:cNvPicPr/>
            <p:nvPr/>
          </p:nvPicPr>
          <p:blipFill>
            <a:blip r:embed="rId2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"/>
            <p:cNvPicPr/>
            <p:nvPr/>
          </p:nvPicPr>
          <p:blipFill>
            <a:blip r:embed="rId3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2" descr=""/>
          <p:cNvPicPr/>
          <p:nvPr/>
        </p:nvPicPr>
        <p:blipFill>
          <a:blip r:embed="rId4"/>
          <a:srcRect l="2501" t="0" r="0" b="0"/>
          <a:stretch/>
        </p:blipFill>
        <p:spPr>
          <a:xfrm>
            <a:off x="4176720" y="1268280"/>
            <a:ext cx="4211640" cy="3897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5"/>
          <a:stretch/>
        </p:blipFill>
        <p:spPr>
          <a:xfrm>
            <a:off x="503280" y="4905360"/>
            <a:ext cx="639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0920" y="368280"/>
            <a:ext cx="8029440" cy="86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ndara"/>
              </a:rPr>
              <a:t>Приклади завдань (Площа континенту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Группа 13"/>
          <p:cNvGrpSpPr/>
          <p:nvPr/>
        </p:nvGrpSpPr>
        <p:grpSpPr>
          <a:xfrm>
            <a:off x="7451640" y="6021360"/>
            <a:ext cx="1476360" cy="681120"/>
            <a:chOff x="7451640" y="6021360"/>
            <a:chExt cx="1476360" cy="68112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tretch/>
          </p:blipFill>
          <p:spPr>
            <a:xfrm>
              <a:off x="7451640" y="6092640"/>
              <a:ext cx="86508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6" descr=""/>
            <p:cNvPicPr/>
            <p:nvPr/>
          </p:nvPicPr>
          <p:blipFill>
            <a:blip r:embed="rId2"/>
            <a:stretch/>
          </p:blipFill>
          <p:spPr>
            <a:xfrm>
              <a:off x="8243640" y="6021360"/>
              <a:ext cx="68436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0" y="1268280"/>
            <a:ext cx="5391000" cy="4781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4"/>
          <a:stretch/>
        </p:blipFill>
        <p:spPr>
          <a:xfrm>
            <a:off x="4932360" y="4616280"/>
            <a:ext cx="40100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43:20Z</dcterms:created>
  <dc:creator>Victor</dc:creator>
  <dc:description/>
  <dc:language>en-US</dc:language>
  <cp:lastModifiedBy>Admin</cp:lastModifiedBy>
  <dcterms:modified xsi:type="dcterms:W3CDTF">2017-01-23T06:48:39Z</dcterms:modified>
  <cp:revision>151</cp:revision>
  <dc:subject/>
  <dc:title>Використання результатів ЗНО для оцінювання результативності роботи шкіл</dc:title>
</cp:coreProperties>
</file>